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793-FA2F-4234-AADD-DD2133FB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5E46-3F75-44B2-992C-A97A194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F5B-11D5-4543-9103-6593933D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A3A-AF1D-4A3E-B63C-F058436F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988-26F5-4B46-B0D5-5EE4E737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0AF-DB67-40AD-828C-38E0B9AF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FD6-7C9E-480A-A898-36C46ADA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0F6-1940-4DAD-93C8-DFD5A1C6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9F5-4D9F-4600-943E-6D14E634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3D8-37ED-4086-820F-FC0F97C7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FE0-78DF-44CB-9B22-8400E9C2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B56-BCD6-4A6D-894E-7DBE7F3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EBF-21CF-48D7-AA74-A7284D06B06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09a88bb-0e97-455f-b62a-b8b50a653278" descr="Image"/>
          <p:cNvPicPr/>
          <p:nvPr/>
        </p:nvPicPr>
        <p:blipFill>
          <a:blip r:embed="rId1"/>
          <a:stretch/>
        </p:blipFill>
        <p:spPr>
          <a:xfrm>
            <a:off x="144360" y="765000"/>
            <a:ext cx="435636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bee76feb-4e2f-4638-97df-9137dc33b0d4" descr="Image"/>
          <p:cNvPicPr/>
          <p:nvPr/>
        </p:nvPicPr>
        <p:blipFill>
          <a:blip r:embed="rId2"/>
          <a:stretch/>
        </p:blipFill>
        <p:spPr>
          <a:xfrm>
            <a:off x="4500720" y="765000"/>
            <a:ext cx="4535280" cy="3095640"/>
          </a:xfrm>
          <a:prstGeom prst="rect">
            <a:avLst/>
          </a:prstGeom>
          <a:ln w="0">
            <a:noFill/>
          </a:ln>
        </p:spPr>
      </p:pic>
      <p:pic>
        <p:nvPicPr>
          <p:cNvPr id="43" name="877a6a86-1331-49a6-9043-23a5b0789646" descr="Image"/>
          <p:cNvPicPr/>
          <p:nvPr/>
        </p:nvPicPr>
        <p:blipFill>
          <a:blip r:embed="rId3"/>
          <a:stretch/>
        </p:blipFill>
        <p:spPr>
          <a:xfrm>
            <a:off x="395280" y="3933720"/>
            <a:ext cx="82281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1547640" y="26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unión del Comité de evaluación y seguimiento del Pro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7:21:27Z</dcterms:created>
  <dc:creator>Impacto</dc:creator>
  <dc:description/>
  <dc:language>en-US</dc:language>
  <cp:lastModifiedBy>Impacto</cp:lastModifiedBy>
  <dcterms:modified xsi:type="dcterms:W3CDTF">2020-10-14T16:46:30Z</dcterms:modified>
  <cp:revision>2</cp:revision>
  <dc:subject/>
  <dc:title>Diapositiva 1</dc:title>
</cp:coreProperties>
</file>